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73B3-E11E-4D2B-BE17-4A76601D8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4C1F-BD7A-45A5-8399-7FAA0059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7552-0860-4E74-A3CF-EF787D8F6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C72D-90A2-4790-B815-84FE142EC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A42C-F9BB-4BE4-8437-19C26E45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4FEA-0DF7-4127-B90C-5939CEE1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34D5-D66C-4B12-972B-A0B51884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5E1E-9FA0-4C02-B3E3-5FE2D2C5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CB27-02C3-4AC1-B6F6-985C852B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25B2-F954-4BAF-83E5-18025BDF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36ED-BD04-4623-8012-AC541638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C963-47ED-453A-A2A6-CC4F058C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D4D1-77F4-47DD-A47C-5A9B76F9EE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4440" y="1295280"/>
            <a:ext cx="43322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Differenc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versu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Rati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Measur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0102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5438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858000" cy="2514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219320" y="3048120"/>
            <a:ext cx="6858000" cy="1447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95280" y="4495680"/>
            <a:ext cx="6858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781680" cy="2514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219320" y="3048120"/>
            <a:ext cx="6781680" cy="990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219320" y="4038480"/>
            <a:ext cx="6781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782040" cy="2057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295280" y="2514600"/>
            <a:ext cx="6782040" cy="1066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295280" y="3581280"/>
            <a:ext cx="67820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858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0866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010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2388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934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152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67053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4T14:27:55Z</dcterms:modified>
  <cp:revision>206</cp:revision>
  <dc:subject/>
  <dc:title>Slide 1</dc:title>
</cp:coreProperties>
</file>